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0AA-D794-4BAC-84E1-AE85D294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8B3-32D6-43B8-9682-62B7F22A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08D-1031-4348-A06C-6FBC63B2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7E0-B1D9-4234-89F2-11B2EDD2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24C-1BBB-4AD5-9838-37E7790E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5D1-B6D5-46A9-ABB6-314FE526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7DD-73E6-4B4A-97E5-04D65811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A354-CFA6-41E9-8623-C9F7BD11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BB1-9FD9-4944-9C33-90AE73F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D28-E143-4E72-80B1-D276326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F4B-0668-4BBB-814E-5A7F17DE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152-6A4D-410B-95E1-BB823E6F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0EFE-ECD4-4894-AD92-6615E1028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43280" y="-100080"/>
            <a:ext cx="4500720" cy="10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3399"/>
                </a:solidFill>
                <a:latin typeface="comic"/>
              </a:rPr>
              <a:t>23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Твое, Христе, е делото,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в което работим!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И защото е Твое, то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не ще да загине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Зъ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рното трябва да умре, преди то злак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да свий, простре.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И в пазвата на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земна твърд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живот намира там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чрез смърт;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и в земна твърд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живот намира в смър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529272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Ти, Спасителю, страда, преди да стигнеш сам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небесний дом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Свои чада след Теб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викаш т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й, Боже, част на всички нас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в страданията на наший Спас; води ни в Твойта светлина, макар през смъртна долина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към светлина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ез мрак към светли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44280"/>
            <a:ext cx="4429440" cy="88678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Ти бе скрит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черна пръст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цял свят за да живей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ися Ти горко и на кръст, нас радост да ог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дай по целий земен шар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а знаят Тебе, своя Ца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естители на Твоя път прати и нас във някой къ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естител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ати нас в някой кът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20:52Z</dcterms:created>
  <dc:creator>TrifonTrifonow</dc:creator>
  <dc:description/>
  <dc:language>en-US</dc:language>
  <cp:lastModifiedBy>TrifonTrifonow</cp:lastModifiedBy>
  <dcterms:modified xsi:type="dcterms:W3CDTF">2005-12-01T20:28:46Z</dcterms:modified>
  <cp:revision>7</cp:revision>
  <dc:subject/>
  <dc:title>Slide 1</dc:title>
</cp:coreProperties>
</file>